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8FAE-3871-40C2-933D-906B476A5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n Ag Metals class these geometry figures could be used in a variety of way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sketch diagrams and cut out of paper to practice basic skill of understanding the fold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are provided various correct and incorrect diagrams to tes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sketch diagrams and use them to create a metal bending project. </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y diagram on metal and trace it.</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asure dimensions of diagram, adjust to desired size, and mark dimensions on metal.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are provided with a worksheet that contains hypothetical situations to use these shapes for metal bending. Students determine which examples would and would no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Instead of using paper to create the diagrams, sketch them on thin cardboard, such as a cereal box. Paper may be too flimsy for this type of project.</a:t>
            </a: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C172-FD75-4632-AEDC-39CA91E8F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FE58D-AE68-4090-A089-914D59D7AB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665883A3-163A-4B27-A618-53A8C0B6BA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88D14F-106F-4251-9E42-7636419845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2A1B13-336A-4120-AE38-B64DEA2DF5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9A8019-2D16-4A2F-9801-BAA8747272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982C95-B32E-4C7F-9446-0E4778F63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9E466B-A05E-414C-81F5-C0024719F2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27B34A-43CB-4F47-9145-28E6BD44BF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D38C1F-CD21-4E2A-B778-845BE701C7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5506E3-E694-44F4-81D0-16CBBDE7FD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721B59-D091-4122-9F6A-FF030D660E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0C1F94-229C-41DB-8C7B-A44FE13978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6B337802-D85D-4538-B9AB-44658B9C71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7EFC28-190C-4343-9054-91300503AC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933E97-4940-4B14-B9D1-0A01FC738D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A69DAC-EFC1-4E14-A317-2D6D7DEAB1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343E85-9033-4C91-B75C-CE861E4027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60FA0A-A74D-4CAF-90C9-944B24D847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67D35-178B-4C6B-94D9-DD46E6E762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BBE9E7-F5C4-41D1-BA32-FD7FD77C0B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7A926F-C032-4DB2-9A57-75BFC1CD0D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73803D-8658-4B38-8345-261C59A148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66F53F-E7D3-41F1-B4A0-2F3C4F0E38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B64DE36F-C846-4ECD-BB1C-B85729D0CD5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BF0515-48DF-48B4-9E4A-DA7C6C984C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CB4F01-4731-4113-8B1C-6BB5D5687C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1FDAC7-59B4-4185-999E-95FC2A6CBF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777738-3B0F-4E28-91EC-478CA94118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A18C95-7679-420B-82C2-5030A887C7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640300-BB14-4392-87CE-86C8611053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833003-5FC0-46A1-AC94-29DC154106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B7C479-80EA-455F-95D2-59E4EA82E9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5BA909-BFBD-4943-929C-B2E2E92221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4561AE-FDD5-41C7-9B3A-837367D06C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8196E9C-6649-4926-822D-7A00B237F6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01FF23-9FA8-4A2F-AF47-E11E53DF13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3B3961-8DB3-4D8A-A997-9F78CE5C38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F1248F-90EB-47C3-A41C-0FFA9AB2EF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4B3E08-CF8E-4318-9BB9-7CFF5C9CF2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25166A-34D3-4751-9363-5345AE01E1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1788AF-01E0-4602-AD27-9C18BF45E9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09FC48-BC35-45B6-881D-3E89E5B05A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21A858-B0CE-4DFB-9468-3D14175CC5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60CAC0-1F89-4CD9-88EF-59D55D2DC3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FA7C82-6BC7-4E36-859B-89AE850188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616A6832-7FA6-438C-8DC9-0B99721B5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A536C8-5744-4FCD-836B-8615285170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5965AB-D52A-4028-A6C4-5A7AB41838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41B16C-4FDD-463D-833D-E7FD375D4D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21B327D-833D-4418-8143-3F941481DFB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BD08EA-DBA0-4D2D-8B5A-E2427ADB99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A9572AB4-EEB3-436E-881E-36CA66DF1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235E7C72-174D-47F2-9327-36F9A253B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11BF6446-99F0-430D-9623-221D368C0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28F4D23C-BF92-402C-8306-B649BB007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97B1D08F-768E-45D3-A5EB-D16BF1DCC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28F480A8-CA36-4871-8E3B-3591546270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D962FEF4-3855-46FA-976E-8B5DC9E0B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53751587-6F90-4E9E-8F35-55FCBE71D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E7DC88BF-9A85-485D-AB3C-A57CB693A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4C658364-821B-440E-A725-08DFC3890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2345C9AD-0311-4E4A-BACC-F40FA933A2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C5374-BAC4-4B99-8BEC-7856D103F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E730B-2308-43CB-B278-817074099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1AA01-6FB0-435E-9A2E-D10BF10F8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70C43-52A6-47F1-B901-9B680E927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EA70E-FD37-44DD-8534-67AB03D58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2418D717-EAC1-4721-A6B8-CC60540B0E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6F40B-1E0E-48E4-9885-A1FF64A99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8072E-D43B-4296-8EC9-6FE234C19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6EE3A-FBF2-42AD-8834-660ECF94E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0523E-B59F-4453-A071-EB105A247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B4084-93B0-43BD-AA6A-BE91DFF91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ABB4E-E513-41FF-99C6-4312BE1BC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4C992-106E-406F-8769-CFE368D13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1AFE92-D46D-4302-9BE8-5E0E44C142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DECC3-4E23-45C7-B8A2-2D1F6174D0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466715-FAEF-44D1-9E65-A9ABF4952B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AC6A1428-A173-4012-86AD-D350E105DE3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6A07F-B6DF-4FBF-9534-FBD91A91E5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4DDD29-D31C-4EFE-B5B2-74072E1AD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B6AACF-8FD0-4C98-BE02-24FD56483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93189-1439-4DB3-AF7E-291893AE1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8591A-DD6B-4E39-B97E-467CAEB43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E17D9-7495-4387-86DE-F56E6426B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44A11F-044A-4A82-BB07-50768519F0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32E6DF-5DBE-49C2-A845-7E77D8E4AC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E2A246-0E22-42F9-80B0-E16C01019F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8674A0-5469-4949-9D57-C6CD2137B3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C4FEE94E-8009-47C2-B6E9-204C2D8CC34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4F707D-5730-4A19-9623-E1CD12D09D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B85D7C-483D-448D-A54F-96F92C6DFE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DC3DF-B674-4DD7-87F1-842A929A3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C7AE53-FBE1-4E62-8125-CE7AF42A3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16E76D-6A7D-4DA7-842E-C5D429BFE7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27CD9-74B2-4882-AD4B-FFF0797B7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C4F17-8BA4-46DC-AB31-222321C20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8B293-3E75-4DD6-8773-36A397801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D976F-F920-478F-AE92-BA5846AB7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5DD39C-05C1-45A6-94EA-DA8D0EBCD1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49C355F5-03F1-4FE4-9F20-B90B7997A0D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F586F7-CFB3-41E3-B290-74A41DC4EB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25CC96-5B87-4998-98A6-D27A282773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114D6B-FD38-410F-8028-DEF42A2887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2FF117-3BBF-40E0-B676-5FA01C52B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761439-FB73-4D38-8102-3FA366C09B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760E76-C396-4BDA-858C-27D0298239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5F876B-E5C6-45F4-9356-34B9ED376C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16803-6129-4220-AFEB-F25B019378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64BC18-7514-44E2-A9A8-C3C63CFE26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F455C6-B843-4EAA-9226-DCBDCA8E6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01AB4388-247B-4611-B1A0-3E846E4CA3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4D2462-9EDB-4589-8A3E-280F26DE7B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F96E13-4580-48C9-875D-AB547D4AF0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50CAAC-AC87-4EF3-AA23-599F9CC684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59FDBD-1A21-4888-AA60-582B47DE8E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3BE595-DB90-45EE-960E-AE256FA8D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29EA9-04F0-4A2B-AE85-41764FBC9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5214DB-567C-4F1A-B3C6-71D86F2D3C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E1D660-DA88-4160-A4D6-28D487AA87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393839-9FCD-499D-8AF4-4BB4899F63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AA636-D82E-482C-8BC8-2BC3CAE08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F37E6BE4-5445-496D-8545-C192B95641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F7E501-71FB-4ED5-849C-2DA81F504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FFBB89-FC95-40A6-9C19-20E5037B6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D26CB6-3590-4C46-885B-692259AC6A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C27D38-928E-4A55-A23F-AFA7910CD6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8E1A41-862E-4FD2-A86A-441CD5D877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90FC6E-0B2D-4DF2-8527-3092325B2B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B331DE-BB9B-4ACF-B079-9111ACFEA7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72691F-E92B-404C-B752-F5AA2837FF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0090DB-9F93-4661-B9C7-18DA2161EF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302623-BD74-481F-A020-B87806BB15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9204A11B-E992-4B48-BD70-47F80295C3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1A66FA-4D77-4475-9C5E-62E05AC4DE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8D0070-A3C8-4EF6-AAEC-B613E17602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C428F6-AA4D-49A0-BBFC-18A4898004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54867B-ADAB-4CE1-9AE9-3FCD69B2AD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13B91C-E970-4D08-B0A8-0453B8AFD7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942346-042B-4661-829C-16E0CABA23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C5E673-E075-4D1E-9470-F9AD953D29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DD371D-4C4A-4FDC-9486-1AC23A50B6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928ADC-5D1D-4F37-A551-47056030DA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7DEB14-5F3D-4DF1-B5C2-E760031549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2DF8-C9D4-4FEF-B16B-424D44E6A25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5F35-9950-4919-93EC-AF96E3576BE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DE48-1C54-4B7E-AC94-424210EE11C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58B6-AFE4-41DF-A0B3-66859980574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3735-D81B-45B7-8578-908360D58A1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6A02-2717-48FC-A960-6B9D62A11C9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983C-2D31-4704-A686-4BD1D9428A28}"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7A887-C98E-417A-B149-031FDF8A163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B2E2-D73D-45B4-84AD-FE661103324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AFA3-7B41-4140-BE89-9A6FE64EDB8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9835-1BAD-4253-B0F4-97CFB42D678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3D14-2EBB-4608-9FBC-B7A1FDDE88E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3</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s time the paper folds perfectly into a box. He can now lay this paper model onto the metal and trace around the outline. He also can measure the dimensions of the boxes to make marks on the metal for the appropriate bends.</a:t>
            </a:r>
            <a:endParaRPr b="0" lang="en-US" sz="2800" spc="-1" strike="noStrike">
              <a:solidFill>
                <a:srgbClr val="4e3b30"/>
              </a:solidFill>
              <a:latin typeface="Verdana"/>
            </a:endParaRPr>
          </a:p>
        </p:txBody>
      </p:sp>
      <p:sp>
        <p:nvSpPr>
          <p:cNvPr id="59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n Ag Metals teacher assigns students to build a pencil-box by bending and shaping metal. She provides a worksheet that includes various possibilities to use to make the box. Students must choose which model would accurately fold into a square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nce students have selected the correct diagram, they will enlarge the dimensions to create a pencil-box. Which diagram should they use?</a:t>
            </a:r>
            <a:endParaRPr b="0" lang="en-US" sz="2800" spc="-1" strike="noStrike">
              <a:solidFill>
                <a:srgbClr val="4e3b30"/>
              </a:solidFill>
              <a:latin typeface="Verdana"/>
            </a:endParaRPr>
          </a:p>
        </p:txBody>
      </p:sp>
      <p:grpSp>
        <p:nvGrpSpPr>
          <p:cNvPr id="596" name="Group 2"/>
          <p:cNvGrpSpPr/>
          <p:nvPr/>
        </p:nvGrpSpPr>
        <p:grpSpPr>
          <a:xfrm>
            <a:off x="3905280" y="3733920"/>
            <a:ext cx="1400040" cy="1257120"/>
            <a:chOff x="3905280" y="3733920"/>
            <a:chExt cx="1400040" cy="1257120"/>
          </a:xfrm>
        </p:grpSpPr>
        <p:sp>
          <p:nvSpPr>
            <p:cNvPr id="597" name="Rectangle 3"/>
            <p:cNvSpPr/>
            <p:nvPr/>
          </p:nvSpPr>
          <p:spPr>
            <a:xfrm>
              <a:off x="437184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
            <p:cNvSpPr/>
            <p:nvPr/>
          </p:nvSpPr>
          <p:spPr>
            <a:xfrm>
              <a:off x="390528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5"/>
            <p:cNvSpPr/>
            <p:nvPr/>
          </p:nvSpPr>
          <p:spPr>
            <a:xfrm>
              <a:off x="3905280" y="415296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6"/>
            <p:cNvSpPr/>
            <p:nvPr/>
          </p:nvSpPr>
          <p:spPr>
            <a:xfrm>
              <a:off x="390528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7"/>
            <p:cNvSpPr/>
            <p:nvPr/>
          </p:nvSpPr>
          <p:spPr>
            <a:xfrm>
              <a:off x="437184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8"/>
            <p:cNvSpPr/>
            <p:nvPr/>
          </p:nvSpPr>
          <p:spPr>
            <a:xfrm>
              <a:off x="483876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3" name="Group 9"/>
          <p:cNvGrpSpPr/>
          <p:nvPr/>
        </p:nvGrpSpPr>
        <p:grpSpPr>
          <a:xfrm>
            <a:off x="6324480" y="3733920"/>
            <a:ext cx="1866960" cy="1257120"/>
            <a:chOff x="6324480" y="3733920"/>
            <a:chExt cx="1866960" cy="1257120"/>
          </a:xfrm>
        </p:grpSpPr>
        <p:sp>
          <p:nvSpPr>
            <p:cNvPr id="604" name="Rectangle 10"/>
            <p:cNvSpPr/>
            <p:nvPr/>
          </p:nvSpPr>
          <p:spPr>
            <a:xfrm>
              <a:off x="679104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1"/>
            <p:cNvSpPr/>
            <p:nvPr/>
          </p:nvSpPr>
          <p:spPr>
            <a:xfrm>
              <a:off x="725796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2"/>
            <p:cNvSpPr/>
            <p:nvPr/>
          </p:nvSpPr>
          <p:spPr>
            <a:xfrm>
              <a:off x="63244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3"/>
            <p:cNvSpPr/>
            <p:nvPr/>
          </p:nvSpPr>
          <p:spPr>
            <a:xfrm>
              <a:off x="7257960" y="373392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4"/>
            <p:cNvSpPr/>
            <p:nvPr/>
          </p:nvSpPr>
          <p:spPr>
            <a:xfrm>
              <a:off x="77248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5"/>
            <p:cNvSpPr/>
            <p:nvPr/>
          </p:nvSpPr>
          <p:spPr>
            <a:xfrm>
              <a:off x="7724880" y="457200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 name="Group 16"/>
          <p:cNvGrpSpPr/>
          <p:nvPr/>
        </p:nvGrpSpPr>
        <p:grpSpPr>
          <a:xfrm>
            <a:off x="1019160" y="3733920"/>
            <a:ext cx="1866600" cy="1676160"/>
            <a:chOff x="1019160" y="3733920"/>
            <a:chExt cx="1866600" cy="1676160"/>
          </a:xfrm>
        </p:grpSpPr>
        <p:sp>
          <p:nvSpPr>
            <p:cNvPr id="612" name="Rectangle 23"/>
            <p:cNvSpPr/>
            <p:nvPr/>
          </p:nvSpPr>
          <p:spPr>
            <a:xfrm>
              <a:off x="2419200" y="4991040"/>
              <a:ext cx="466560" cy="41904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2"/>
            <p:cNvSpPr/>
            <p:nvPr/>
          </p:nvSpPr>
          <p:spPr>
            <a:xfrm>
              <a:off x="1019160" y="373392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1"/>
            <p:cNvSpPr/>
            <p:nvPr/>
          </p:nvSpPr>
          <p:spPr>
            <a:xfrm>
              <a:off x="101916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20"/>
            <p:cNvSpPr/>
            <p:nvPr/>
          </p:nvSpPr>
          <p:spPr>
            <a:xfrm>
              <a:off x="148572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9"/>
            <p:cNvSpPr/>
            <p:nvPr/>
          </p:nvSpPr>
          <p:spPr>
            <a:xfrm>
              <a:off x="148572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8"/>
            <p:cNvSpPr/>
            <p:nvPr/>
          </p:nvSpPr>
          <p:spPr>
            <a:xfrm>
              <a:off x="1952640" y="49910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7"/>
            <p:cNvSpPr/>
            <p:nvPr/>
          </p:nvSpPr>
          <p:spPr>
            <a:xfrm>
              <a:off x="195264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2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Students should use the purple figure because it folds into a box.</a:t>
            </a:r>
            <a:endParaRPr b="0" lang="en-US" sz="2800" spc="-1" strike="noStrike">
              <a:solidFill>
                <a:srgbClr val="4e3b30"/>
              </a:solidFill>
              <a:latin typeface="Verdana"/>
            </a:endParaRPr>
          </a:p>
        </p:txBody>
      </p:sp>
      <p:grpSp>
        <p:nvGrpSpPr>
          <p:cNvPr id="621" name="Group 2"/>
          <p:cNvGrpSpPr/>
          <p:nvPr/>
        </p:nvGrpSpPr>
        <p:grpSpPr>
          <a:xfrm>
            <a:off x="3905280" y="3733920"/>
            <a:ext cx="1400040" cy="1257120"/>
            <a:chOff x="3905280" y="3733920"/>
            <a:chExt cx="1400040" cy="1257120"/>
          </a:xfrm>
        </p:grpSpPr>
        <p:sp>
          <p:nvSpPr>
            <p:cNvPr id="622" name="Rectangle 3"/>
            <p:cNvSpPr/>
            <p:nvPr/>
          </p:nvSpPr>
          <p:spPr>
            <a:xfrm>
              <a:off x="437184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4"/>
            <p:cNvSpPr/>
            <p:nvPr/>
          </p:nvSpPr>
          <p:spPr>
            <a:xfrm>
              <a:off x="390528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5"/>
            <p:cNvSpPr/>
            <p:nvPr/>
          </p:nvSpPr>
          <p:spPr>
            <a:xfrm>
              <a:off x="3905280" y="415296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
            <p:cNvSpPr/>
            <p:nvPr/>
          </p:nvSpPr>
          <p:spPr>
            <a:xfrm>
              <a:off x="390528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7"/>
            <p:cNvSpPr/>
            <p:nvPr/>
          </p:nvSpPr>
          <p:spPr>
            <a:xfrm>
              <a:off x="437184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8"/>
            <p:cNvSpPr/>
            <p:nvPr/>
          </p:nvSpPr>
          <p:spPr>
            <a:xfrm>
              <a:off x="483876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8" name="Group 9"/>
          <p:cNvGrpSpPr/>
          <p:nvPr/>
        </p:nvGrpSpPr>
        <p:grpSpPr>
          <a:xfrm>
            <a:off x="6324480" y="3733920"/>
            <a:ext cx="1866960" cy="1257120"/>
            <a:chOff x="6324480" y="3733920"/>
            <a:chExt cx="1866960" cy="1257120"/>
          </a:xfrm>
        </p:grpSpPr>
        <p:sp>
          <p:nvSpPr>
            <p:cNvPr id="629" name="Rectangle 10"/>
            <p:cNvSpPr/>
            <p:nvPr/>
          </p:nvSpPr>
          <p:spPr>
            <a:xfrm>
              <a:off x="679104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1"/>
            <p:cNvSpPr/>
            <p:nvPr/>
          </p:nvSpPr>
          <p:spPr>
            <a:xfrm>
              <a:off x="725796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2"/>
            <p:cNvSpPr/>
            <p:nvPr/>
          </p:nvSpPr>
          <p:spPr>
            <a:xfrm>
              <a:off x="63244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3"/>
            <p:cNvSpPr/>
            <p:nvPr/>
          </p:nvSpPr>
          <p:spPr>
            <a:xfrm>
              <a:off x="7257960" y="373392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4"/>
            <p:cNvSpPr/>
            <p:nvPr/>
          </p:nvSpPr>
          <p:spPr>
            <a:xfrm>
              <a:off x="77248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5"/>
            <p:cNvSpPr/>
            <p:nvPr/>
          </p:nvSpPr>
          <p:spPr>
            <a:xfrm>
              <a:off x="7724880" y="457200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16"/>
          <p:cNvGrpSpPr/>
          <p:nvPr/>
        </p:nvGrpSpPr>
        <p:grpSpPr>
          <a:xfrm>
            <a:off x="1019160" y="3733920"/>
            <a:ext cx="1866600" cy="1676160"/>
            <a:chOff x="1019160" y="3733920"/>
            <a:chExt cx="1866600" cy="1676160"/>
          </a:xfrm>
        </p:grpSpPr>
        <p:sp>
          <p:nvSpPr>
            <p:cNvPr id="636" name="Rectangle 23"/>
            <p:cNvSpPr/>
            <p:nvPr/>
          </p:nvSpPr>
          <p:spPr>
            <a:xfrm>
              <a:off x="2419200" y="4991040"/>
              <a:ext cx="466560" cy="41904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22"/>
            <p:cNvSpPr/>
            <p:nvPr/>
          </p:nvSpPr>
          <p:spPr>
            <a:xfrm>
              <a:off x="1019160" y="373392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21"/>
            <p:cNvSpPr/>
            <p:nvPr/>
          </p:nvSpPr>
          <p:spPr>
            <a:xfrm>
              <a:off x="101916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0"/>
            <p:cNvSpPr/>
            <p:nvPr/>
          </p:nvSpPr>
          <p:spPr>
            <a:xfrm>
              <a:off x="148572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19"/>
            <p:cNvSpPr/>
            <p:nvPr/>
          </p:nvSpPr>
          <p:spPr>
            <a:xfrm>
              <a:off x="148572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18"/>
            <p:cNvSpPr/>
            <p:nvPr/>
          </p:nvSpPr>
          <p:spPr>
            <a:xfrm>
              <a:off x="1952640" y="49910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7"/>
            <p:cNvSpPr/>
            <p:nvPr/>
          </p:nvSpPr>
          <p:spPr>
            <a:xfrm>
              <a:off x="195264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Rectangle 25"/>
          <p:cNvSpPr/>
          <p:nvPr/>
        </p:nvSpPr>
        <p:spPr>
          <a:xfrm>
            <a:off x="5943600" y="3124080"/>
            <a:ext cx="2666880" cy="2514600"/>
          </a:xfrm>
          <a:prstGeom prst="rect">
            <a:avLst/>
          </a:prstGeom>
          <a:noFill/>
          <a:ln w="38160">
            <a:solidFill>
              <a:srgbClr val="f0a2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4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X sketches the following diagram to use for his metal box project. If he uses this diagram, will his metal fold into a box?</a:t>
            </a:r>
            <a:endParaRPr b="0" lang="en-US" sz="2800" spc="-1" strike="noStrike">
              <a:solidFill>
                <a:srgbClr val="4e3b30"/>
              </a:solidFill>
              <a:latin typeface="Verdana"/>
            </a:endParaRPr>
          </a:p>
        </p:txBody>
      </p:sp>
      <p:sp>
        <p:nvSpPr>
          <p:cNvPr id="64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7" name="Group 4"/>
          <p:cNvGrpSpPr/>
          <p:nvPr/>
        </p:nvGrpSpPr>
        <p:grpSpPr>
          <a:xfrm>
            <a:off x="3695760" y="3581280"/>
            <a:ext cx="1866960" cy="1257480"/>
            <a:chOff x="3695760" y="3581280"/>
            <a:chExt cx="1866960" cy="1257480"/>
          </a:xfrm>
        </p:grpSpPr>
        <p:sp>
          <p:nvSpPr>
            <p:cNvPr id="648" name="Rectangle 10"/>
            <p:cNvSpPr/>
            <p:nvPr/>
          </p:nvSpPr>
          <p:spPr>
            <a:xfrm>
              <a:off x="509616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9"/>
            <p:cNvSpPr/>
            <p:nvPr/>
          </p:nvSpPr>
          <p:spPr>
            <a:xfrm>
              <a:off x="369576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8"/>
            <p:cNvSpPr/>
            <p:nvPr/>
          </p:nvSpPr>
          <p:spPr>
            <a:xfrm>
              <a:off x="3695760" y="40003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7"/>
            <p:cNvSpPr/>
            <p:nvPr/>
          </p:nvSpPr>
          <p:spPr>
            <a:xfrm>
              <a:off x="3695760" y="358128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6"/>
            <p:cNvSpPr/>
            <p:nvPr/>
          </p:nvSpPr>
          <p:spPr>
            <a:xfrm>
              <a:off x="416232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5"/>
            <p:cNvSpPr/>
            <p:nvPr/>
          </p:nvSpPr>
          <p:spPr>
            <a:xfrm>
              <a:off x="462924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5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No, there will be overlapping side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Y sketches the following diagram to use for his metal box project. If he uses this diagram, will his metal fold into a box?</a:t>
            </a:r>
            <a:endParaRPr b="0" lang="en-US" sz="2800" spc="-1" strike="noStrike">
              <a:solidFill>
                <a:srgbClr val="4e3b30"/>
              </a:solidFill>
              <a:latin typeface="Verdana"/>
            </a:endParaRPr>
          </a:p>
        </p:txBody>
      </p:sp>
      <p:sp>
        <p:nvSpPr>
          <p:cNvPr id="6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9" name="Group 4"/>
          <p:cNvGrpSpPr/>
          <p:nvPr/>
        </p:nvGrpSpPr>
        <p:grpSpPr>
          <a:xfrm>
            <a:off x="3948120" y="3429000"/>
            <a:ext cx="1400040" cy="1676520"/>
            <a:chOff x="3948120" y="3429000"/>
            <a:chExt cx="1400040" cy="1676520"/>
          </a:xfrm>
        </p:grpSpPr>
        <p:sp>
          <p:nvSpPr>
            <p:cNvPr id="660" name="Rectangle 10"/>
            <p:cNvSpPr/>
            <p:nvPr/>
          </p:nvSpPr>
          <p:spPr>
            <a:xfrm>
              <a:off x="4414680" y="384804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9"/>
            <p:cNvSpPr/>
            <p:nvPr/>
          </p:nvSpPr>
          <p:spPr>
            <a:xfrm>
              <a:off x="3948120" y="46864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8"/>
            <p:cNvSpPr/>
            <p:nvPr/>
          </p:nvSpPr>
          <p:spPr>
            <a:xfrm>
              <a:off x="4881600" y="342900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7"/>
            <p:cNvSpPr/>
            <p:nvPr/>
          </p:nvSpPr>
          <p:spPr>
            <a:xfrm>
              <a:off x="4881600" y="384804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6"/>
            <p:cNvSpPr/>
            <p:nvPr/>
          </p:nvSpPr>
          <p:spPr>
            <a:xfrm>
              <a:off x="3948120" y="42670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
            <p:cNvSpPr/>
            <p:nvPr/>
          </p:nvSpPr>
          <p:spPr>
            <a:xfrm>
              <a:off x="4414680" y="42670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Yes, there is the correct number of squares, and they each fold to represent one side of the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Ag Metal Fabrication students use geometry shapes to determine how to cut and bend metal to create metal box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 Metal Fabrication—AMF1.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repare different types of metal for weld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Bend, shape, file, and grind metal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G.2.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recognize the relationship between a three-dimensional figure and its two-dimensional representation.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ich of the following will fold into a cub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make a net diagram of a box:</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tart with six squares since there are six sides to a cub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the six squares so they fold into a cub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ink of a cube as four sides, a top, and a bottom.</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rst choose one square to be the base of the cube in your min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make a net diagram of a box:</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n imagine the sides folding up around the bas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 last square should flip over to be the top of the cub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sked to create a small box by bending and shaping metal. They first diagram their box design on paper to determine how it will fold. Using geometry knowledge, they will create a model that will fold into a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A creates this design. He cuts out the paper model and practices folding it to ensure his diagram will work.</a:t>
            </a:r>
            <a:endParaRPr b="0" lang="en-US" sz="2800" spc="-1" strike="noStrike">
              <a:solidFill>
                <a:srgbClr val="4e3b30"/>
              </a:solidFill>
              <a:latin typeface="Verdana"/>
            </a:endParaRPr>
          </a:p>
        </p:txBody>
      </p:sp>
      <p:sp>
        <p:nvSpPr>
          <p:cNvPr id="56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9" name="Group 4"/>
          <p:cNvGrpSpPr/>
          <p:nvPr/>
        </p:nvGrpSpPr>
        <p:grpSpPr>
          <a:xfrm>
            <a:off x="3200400" y="3733920"/>
            <a:ext cx="2333520" cy="1256760"/>
            <a:chOff x="3200400" y="3733920"/>
            <a:chExt cx="2333520" cy="1256760"/>
          </a:xfrm>
        </p:grpSpPr>
        <p:sp>
          <p:nvSpPr>
            <p:cNvPr id="570" name="Rectangle 11"/>
            <p:cNvSpPr/>
            <p:nvPr/>
          </p:nvSpPr>
          <p:spPr>
            <a:xfrm>
              <a:off x="32004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0"/>
            <p:cNvSpPr/>
            <p:nvPr/>
          </p:nvSpPr>
          <p:spPr>
            <a:xfrm>
              <a:off x="366696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9"/>
            <p:cNvSpPr/>
            <p:nvPr/>
          </p:nvSpPr>
          <p:spPr>
            <a:xfrm>
              <a:off x="413388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8"/>
            <p:cNvSpPr/>
            <p:nvPr/>
          </p:nvSpPr>
          <p:spPr>
            <a:xfrm>
              <a:off x="460044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7"/>
            <p:cNvSpPr/>
            <p:nvPr/>
          </p:nvSpPr>
          <p:spPr>
            <a:xfrm>
              <a:off x="3666960" y="45720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6"/>
            <p:cNvSpPr/>
            <p:nvPr/>
          </p:nvSpPr>
          <p:spPr>
            <a:xfrm>
              <a:off x="3666960" y="37339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5"/>
            <p:cNvSpPr/>
            <p:nvPr/>
          </p:nvSpPr>
          <p:spPr>
            <a:xfrm>
              <a:off x="5067360" y="41526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fter he tries folding this model, he realizes he has one too many squares. He only needs six. He tries again by cutting off one square cube of the paper.</a:t>
            </a:r>
            <a:endParaRPr b="0" lang="en-US" sz="2800" spc="-1" strike="noStrike">
              <a:solidFill>
                <a:srgbClr val="4e3b30"/>
              </a:solidFill>
              <a:latin typeface="Verdana"/>
            </a:endParaRPr>
          </a:p>
        </p:txBody>
      </p:sp>
      <p:sp>
        <p:nvSpPr>
          <p:cNvPr id="57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1" name="Group 1"/>
          <p:cNvGrpSpPr/>
          <p:nvPr/>
        </p:nvGrpSpPr>
        <p:grpSpPr>
          <a:xfrm>
            <a:off x="3200400" y="3733920"/>
            <a:ext cx="1866960" cy="1256760"/>
            <a:chOff x="3200400" y="3733920"/>
            <a:chExt cx="1866960" cy="1256760"/>
          </a:xfrm>
        </p:grpSpPr>
        <p:sp>
          <p:nvSpPr>
            <p:cNvPr id="582" name="Rectangle 7"/>
            <p:cNvSpPr/>
            <p:nvPr/>
          </p:nvSpPr>
          <p:spPr>
            <a:xfrm>
              <a:off x="32004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366696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5"/>
            <p:cNvSpPr/>
            <p:nvPr/>
          </p:nvSpPr>
          <p:spPr>
            <a:xfrm>
              <a:off x="413388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46008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3"/>
            <p:cNvSpPr/>
            <p:nvPr/>
          </p:nvSpPr>
          <p:spPr>
            <a:xfrm>
              <a:off x="3666960" y="45720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
            <p:cNvSpPr/>
            <p:nvPr/>
          </p:nvSpPr>
          <p:spPr>
            <a:xfrm>
              <a:off x="3666960" y="37339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7-31T05:26:05Z</dcterms:modified>
  <cp:revision>20</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49566738</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vt:lpwstr>
  </property>
</Properties>
</file>